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5.wmf" ContentType="image/x-wmf"/>
  <Override PartName="/ppt/media/image7.jpeg" ContentType="image/jpeg"/>
  <Override PartName="/ppt/media/image12.jpeg" ContentType="image/jpeg"/>
  <Override PartName="/ppt/media/image11.png" ContentType="image/png"/>
  <Override PartName="/ppt/media/image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091E-FDFB-4311-A66F-0DCF7F02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16D-F203-4DAE-A1E6-24AB08EA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54F-DB2E-4301-B548-E6928C45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3CF-45C1-4A74-9917-1FE21403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33D9-9302-4BDF-8169-2CEAF669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A170-7B46-4C54-9B76-219BC3F4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9FAF-9F6E-4A46-ABD0-AF0C0731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F97D-137F-4892-9778-7E25C0D1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6E2-D215-4673-A07D-EAC5D298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2FAE-98BF-43A3-AD8F-60DC7E79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09F5-028F-4665-B8A4-F9844C53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104A-4AC2-44FE-B511-C6B162AE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B59E-1BF8-4929-92FE-33FA2FD4A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038480" y="2601000"/>
            <a:ext cx="5088600" cy="4230360"/>
            <a:chOff x="4038480" y="2601000"/>
            <a:chExt cx="5088600" cy="4230360"/>
          </a:xfrm>
        </p:grpSpPr>
        <p:sp>
          <p:nvSpPr>
            <p:cNvPr id="6" name=""/>
            <p:cNvSpPr/>
            <p:nvPr/>
          </p:nvSpPr>
          <p:spPr>
            <a:xfrm>
              <a:off x="5770800" y="3135960"/>
              <a:ext cx="2786400" cy="203076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30240" y="613260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30240" y="613260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851360" y="5488920"/>
              <a:ext cx="3251160" cy="134244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851360" y="5488920"/>
              <a:ext cx="3251160" cy="134244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846560" y="6033240"/>
              <a:ext cx="1280160" cy="7981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846560" y="6033240"/>
              <a:ext cx="1280160" cy="7981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02880" y="3733920"/>
              <a:ext cx="1023840" cy="244440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02880" y="3733920"/>
              <a:ext cx="1023840" cy="244440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995000" y="260100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995000" y="260100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00680" y="358956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79600" y="404676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435360" y="455724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197400" y="509976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782320" y="623268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038480" y="5288040"/>
              <a:ext cx="699120" cy="22212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770800" y="3135960"/>
              <a:ext cx="2786400" cy="203076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430240" y="613260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430240" y="613260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51360" y="5488920"/>
              <a:ext cx="3251160" cy="134244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851360" y="5488920"/>
              <a:ext cx="3251160" cy="134244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846560" y="6033240"/>
              <a:ext cx="1280160" cy="7981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846560" y="6033240"/>
              <a:ext cx="1280160" cy="7981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102880" y="3733920"/>
              <a:ext cx="1023840" cy="244440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102880" y="3733920"/>
              <a:ext cx="1023840" cy="244440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995000" y="260100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995000" y="260100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600680" y="358956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879600" y="404676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435360" y="455724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6197400" y="509976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782320" y="623268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038480" y="5288040"/>
              <a:ext cx="699120" cy="22212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486080" cy="46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5114880"/>
            <a:ext cx="9144000" cy="1743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1905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5137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43120" y="746280"/>
            <a:ext cx="4754520" cy="1420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2262240"/>
            <a:ext cx="6553080" cy="36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BLcd"/>
              </a:rPr>
              <a:t>Global Services Corpor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BLcd"/>
              </a:rPr>
              <a:t>(MGS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BLcd"/>
              </a:rPr>
              <a:t>Jay W. Kelley, 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455400"/>
            <a:ext cx="8810640" cy="70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ing Business with NATO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5600" y="1385640"/>
            <a:ext cx="8726400" cy="46699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TO works through Committe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Financial Committees: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frastructure Committee  (IC) – NATO Security Investment Programme (NSIP)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litary Budget Committee (MBC) – Admin., suppor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Committees Work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TO National Delegations staff Committe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ittees make decisions, authorise projec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ittees procure through Agencies and Command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TO Delegations must nominate companies for them to be eligible to bi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Bs – Case by case nomination  &gt;$5M (Euros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As – One blanket nomination 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43280" y="396252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54440" y="400860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3809880"/>
            <a:ext cx="0" cy="165600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3080" y="400860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16120" y="1484280"/>
            <a:ext cx="2522520" cy="609480"/>
          </a:xfrm>
          <a:prstGeom prst="wedgeRectCallout">
            <a:avLst>
              <a:gd name="adj1" fmla="val -69004"/>
              <a:gd name="adj2" fmla="val 3710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litar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34640" y="5359320"/>
            <a:ext cx="8612280" cy="801000"/>
            <a:chOff x="134640" y="5359320"/>
            <a:chExt cx="8612280" cy="801000"/>
          </a:xfrm>
        </p:grpSpPr>
        <p:grpSp>
          <p:nvGrpSpPr>
            <p:cNvPr id="162" name=""/>
            <p:cNvGrpSpPr/>
            <p:nvPr/>
          </p:nvGrpSpPr>
          <p:grpSpPr>
            <a:xfrm>
              <a:off x="282600" y="5359320"/>
              <a:ext cx="8292960" cy="336600"/>
              <a:chOff x="282600" y="5359320"/>
              <a:chExt cx="8292960" cy="336600"/>
            </a:xfrm>
          </p:grpSpPr>
          <p:sp>
            <p:nvSpPr>
              <p:cNvPr id="163" name=""/>
              <p:cNvSpPr/>
              <p:nvPr/>
            </p:nvSpPr>
            <p:spPr>
              <a:xfrm>
                <a:off x="282600" y="5375160"/>
                <a:ext cx="8292960" cy="304920"/>
              </a:xfrm>
              <a:prstGeom prst="rect">
                <a:avLst/>
              </a:prstGeom>
              <a:gradFill rotWithShape="0">
                <a:gsLst>
                  <a:gs pos="0">
                    <a:srgbClr val="ff00ff"/>
                  </a:gs>
                  <a:gs pos="50000">
                    <a:srgbClr val="ffffff"/>
                  </a:gs>
                  <a:gs pos="100000">
                    <a:srgbClr val="ff00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336920" y="5359320"/>
                <a:ext cx="18432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134640" y="5523120"/>
              <a:ext cx="8612280" cy="637200"/>
              <a:chOff x="134640" y="5523120"/>
              <a:chExt cx="8612280" cy="63720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304560" y="5523120"/>
                <a:ext cx="8254800" cy="330120"/>
                <a:chOff x="304560" y="5523120"/>
                <a:chExt cx="8254800" cy="330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0456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828600" y="5523120"/>
                  <a:ext cx="12960" cy="330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38000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55936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02092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48248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66184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20064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134640" y="5824440"/>
                <a:ext cx="8612280" cy="335880"/>
                <a:chOff x="134640" y="5824440"/>
                <a:chExt cx="8612280" cy="3358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34640" y="5824440"/>
                  <a:ext cx="2977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25676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43792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8728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95584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60612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14960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33040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4" name=""/>
          <p:cNvSpPr/>
          <p:nvPr/>
        </p:nvSpPr>
        <p:spPr>
          <a:xfrm>
            <a:off x="1711440" y="2892600"/>
            <a:ext cx="2311200" cy="633240"/>
          </a:xfrm>
          <a:prstGeom prst="wedgeRectCallout">
            <a:avLst>
              <a:gd name="adj1" fmla="val -754"/>
              <a:gd name="adj2" fmla="val 12969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litar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2209680"/>
            <a:ext cx="2522520" cy="452520"/>
          </a:xfrm>
          <a:prstGeom prst="wedgeRectCallout">
            <a:avLst>
              <a:gd name="adj1" fmla="val 8337"/>
              <a:gd name="adj2" fmla="val 34579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Auth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2514600"/>
            <a:ext cx="1425600" cy="633240"/>
          </a:xfrm>
          <a:prstGeom prst="wedgeRectCallout">
            <a:avLst>
              <a:gd name="adj1" fmla="val -117259"/>
              <a:gd name="adj2" fmla="val 16027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690040" y="400860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18160" y="4330800"/>
            <a:ext cx="1959120" cy="633240"/>
          </a:xfrm>
          <a:prstGeom prst="wedgeRectCallout">
            <a:avLst>
              <a:gd name="adj1" fmla="val 59560"/>
              <a:gd name="adj2" fmla="val -9937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455400"/>
            <a:ext cx="8734320" cy="70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O Acquisition Lifecyc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04000" y="610236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43280" y="400536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3080" y="400860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6120" y="1484280"/>
            <a:ext cx="2522520" cy="609480"/>
          </a:xfrm>
          <a:prstGeom prst="wedgeRectCallout">
            <a:avLst>
              <a:gd name="adj1" fmla="val -69004"/>
              <a:gd name="adj2" fmla="val 3710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litar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34640" y="5359320"/>
            <a:ext cx="8612280" cy="801000"/>
            <a:chOff x="134640" y="5359320"/>
            <a:chExt cx="8612280" cy="801000"/>
          </a:xfrm>
        </p:grpSpPr>
        <p:grpSp>
          <p:nvGrpSpPr>
            <p:cNvPr id="195" name=""/>
            <p:cNvGrpSpPr/>
            <p:nvPr/>
          </p:nvGrpSpPr>
          <p:grpSpPr>
            <a:xfrm>
              <a:off x="282600" y="5359320"/>
              <a:ext cx="8292960" cy="336600"/>
              <a:chOff x="282600" y="5359320"/>
              <a:chExt cx="8292960" cy="336600"/>
            </a:xfrm>
          </p:grpSpPr>
          <p:sp>
            <p:nvSpPr>
              <p:cNvPr id="196" name=""/>
              <p:cNvSpPr/>
              <p:nvPr/>
            </p:nvSpPr>
            <p:spPr>
              <a:xfrm>
                <a:off x="282600" y="5375160"/>
                <a:ext cx="8292960" cy="304920"/>
              </a:xfrm>
              <a:prstGeom prst="rect">
                <a:avLst/>
              </a:prstGeom>
              <a:gradFill rotWithShape="0">
                <a:gsLst>
                  <a:gs pos="0">
                    <a:srgbClr val="ff00ff"/>
                  </a:gs>
                  <a:gs pos="50000">
                    <a:srgbClr val="ffffff"/>
                  </a:gs>
                  <a:gs pos="100000">
                    <a:srgbClr val="ff00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335480" y="535932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34640" y="5523120"/>
              <a:ext cx="8612280" cy="637200"/>
              <a:chOff x="134640" y="5523120"/>
              <a:chExt cx="8612280" cy="63720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304560" y="5523120"/>
                <a:ext cx="8254800" cy="330120"/>
                <a:chOff x="304560" y="5523120"/>
                <a:chExt cx="8254800" cy="3301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0456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828600" y="5523120"/>
                  <a:ext cx="12960" cy="330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8000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55936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02092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48248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66184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20064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134640" y="5824440"/>
                <a:ext cx="8612280" cy="335880"/>
                <a:chOff x="134640" y="5824440"/>
                <a:chExt cx="8612280" cy="3358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34640" y="5824440"/>
                  <a:ext cx="2977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25676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43792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78728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95584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60612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14960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33040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7" name=""/>
          <p:cNvSpPr/>
          <p:nvPr/>
        </p:nvSpPr>
        <p:spPr>
          <a:xfrm>
            <a:off x="1711440" y="2892600"/>
            <a:ext cx="2311200" cy="633240"/>
          </a:xfrm>
          <a:prstGeom prst="wedgeRectCallout">
            <a:avLst>
              <a:gd name="adj1" fmla="val -754"/>
              <a:gd name="adj2" fmla="val 12969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litar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790120" cy="70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O Programming Sta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1341360"/>
            <a:ext cx="3384720" cy="489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21280" y="1262160"/>
            <a:ext cx="389304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pability Packages (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veloped by S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bmitted to NATO H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/IMS Join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arallel Endor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C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ps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RB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igibility/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ost 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pproval by NAC/D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04000" y="610236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43280" y="396252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54440" y="400860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91320" y="3809880"/>
            <a:ext cx="0" cy="165600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3080" y="400860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34640" y="5359320"/>
            <a:ext cx="8612280" cy="801000"/>
            <a:chOff x="134640" y="5359320"/>
            <a:chExt cx="8612280" cy="801000"/>
          </a:xfrm>
        </p:grpSpPr>
        <p:grpSp>
          <p:nvGrpSpPr>
            <p:cNvPr id="227" name=""/>
            <p:cNvGrpSpPr/>
            <p:nvPr/>
          </p:nvGrpSpPr>
          <p:grpSpPr>
            <a:xfrm>
              <a:off x="282600" y="5359320"/>
              <a:ext cx="8292960" cy="336600"/>
              <a:chOff x="282600" y="5359320"/>
              <a:chExt cx="8292960" cy="336600"/>
            </a:xfrm>
          </p:grpSpPr>
          <p:sp>
            <p:nvSpPr>
              <p:cNvPr id="228" name=""/>
              <p:cNvSpPr/>
              <p:nvPr/>
            </p:nvSpPr>
            <p:spPr>
              <a:xfrm>
                <a:off x="282600" y="5375160"/>
                <a:ext cx="8292960" cy="304920"/>
              </a:xfrm>
              <a:prstGeom prst="rect">
                <a:avLst/>
              </a:prstGeom>
              <a:gradFill rotWithShape="0">
                <a:gsLst>
                  <a:gs pos="0">
                    <a:srgbClr val="ff00ff"/>
                  </a:gs>
                  <a:gs pos="50000">
                    <a:srgbClr val="ffffff"/>
                  </a:gs>
                  <a:gs pos="100000">
                    <a:srgbClr val="ff00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35480" y="535932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134640" y="5523120"/>
              <a:ext cx="8612280" cy="637200"/>
              <a:chOff x="134640" y="5523120"/>
              <a:chExt cx="8612280" cy="63720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304560" y="5523120"/>
                <a:ext cx="8254800" cy="330120"/>
                <a:chOff x="304560" y="5523120"/>
                <a:chExt cx="8254800" cy="3301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0456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828600" y="5523120"/>
                  <a:ext cx="12960" cy="330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38000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55936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02092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48248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66184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20064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34640" y="5824440"/>
                <a:ext cx="8612280" cy="335880"/>
                <a:chOff x="134640" y="5824440"/>
                <a:chExt cx="8612280" cy="33588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34640" y="5824440"/>
                  <a:ext cx="2977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25676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43792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78728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95584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60612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4960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833040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9" name=""/>
          <p:cNvSpPr/>
          <p:nvPr/>
        </p:nvSpPr>
        <p:spPr>
          <a:xfrm>
            <a:off x="1711440" y="2892600"/>
            <a:ext cx="2311200" cy="633240"/>
          </a:xfrm>
          <a:prstGeom prst="wedgeRectCallout">
            <a:avLst>
              <a:gd name="adj1" fmla="val -754"/>
              <a:gd name="adj2" fmla="val 12969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litar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2209680"/>
            <a:ext cx="2522520" cy="452520"/>
          </a:xfrm>
          <a:prstGeom prst="wedgeRectCallout">
            <a:avLst>
              <a:gd name="adj1" fmla="val 8337"/>
              <a:gd name="adj2" fmla="val 34579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Auth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2514600"/>
            <a:ext cx="1425600" cy="633240"/>
          </a:xfrm>
          <a:prstGeom prst="wedgeRectCallout">
            <a:avLst>
              <a:gd name="adj1" fmla="val -117259"/>
              <a:gd name="adj2" fmla="val 16027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690040" y="400860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18160" y="4330800"/>
            <a:ext cx="1959120" cy="633240"/>
          </a:xfrm>
          <a:prstGeom prst="wedgeRectCallout">
            <a:avLst>
              <a:gd name="adj1" fmla="val 59560"/>
              <a:gd name="adj2" fmla="val -9937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455400"/>
            <a:ext cx="8734320" cy="70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O Implementation Initi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16360" y="1600200"/>
            <a:ext cx="3168360" cy="4537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04000" y="610236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6120" y="1484280"/>
            <a:ext cx="2522520" cy="609480"/>
          </a:xfrm>
          <a:prstGeom prst="wedgeRectCallout">
            <a:avLst>
              <a:gd name="adj1" fmla="val -69004"/>
              <a:gd name="adj2" fmla="val 3710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litar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" y="380880"/>
            <a:ext cx="86868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ATO Acquisition Life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41400" y="5732640"/>
            <a:ext cx="8067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09600" y="5761080"/>
            <a:ext cx="99396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Concep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Ph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608200" y="5761080"/>
            <a:ext cx="115560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Defin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Ph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75200" y="5761080"/>
            <a:ext cx="14540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Procur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Ph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61440" y="5761080"/>
            <a:ext cx="124776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Us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Ph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-403200" y="1668600"/>
            <a:ext cx="1398600" cy="36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NATO </a:t>
            </a:r>
            <a:r>
              <a:rPr b="1" lang="en-GB" sz="1300" spc="-1" strike="noStrike">
                <a:solidFill>
                  <a:srgbClr val="000066"/>
                </a:solidFill>
                <a:latin typeface="Times New Roman"/>
              </a:rPr>
              <a:t>Committe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SC/Us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NC3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NAC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NAM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NC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46240" y="1668600"/>
            <a:ext cx="0" cy="42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06600" y="5732640"/>
            <a:ext cx="0" cy="290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98800" y="5732640"/>
            <a:ext cx="0" cy="290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275600" y="5732640"/>
            <a:ext cx="1440" cy="290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94000" y="1852560"/>
            <a:ext cx="36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94000" y="237348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011240" y="1706760"/>
            <a:ext cx="1510560" cy="3823920"/>
            <a:chOff x="1011240" y="1706760"/>
            <a:chExt cx="1510560" cy="3823920"/>
          </a:xfrm>
        </p:grpSpPr>
        <p:grpSp>
          <p:nvGrpSpPr>
            <p:cNvPr id="272" name=""/>
            <p:cNvGrpSpPr/>
            <p:nvPr/>
          </p:nvGrpSpPr>
          <p:grpSpPr>
            <a:xfrm>
              <a:off x="1015200" y="3662640"/>
              <a:ext cx="1250640" cy="1291320"/>
              <a:chOff x="1015200" y="3662640"/>
              <a:chExt cx="1250640" cy="1291320"/>
            </a:xfrm>
          </p:grpSpPr>
          <p:sp>
            <p:nvSpPr>
              <p:cNvPr id="273" name=""/>
              <p:cNvSpPr/>
              <p:nvPr/>
            </p:nvSpPr>
            <p:spPr>
              <a:xfrm>
                <a:off x="1015200" y="3662640"/>
                <a:ext cx="1162800" cy="1137960"/>
              </a:xfrm>
              <a:custGeom>
                <a:avLst/>
                <a:gdLst/>
                <a:ahLst/>
                <a:rect l="l" t="t" r="r" b="b"/>
                <a:pathLst>
                  <a:path w="864" h="864">
                    <a:moveTo>
                      <a:pt x="0" y="0"/>
                    </a:moveTo>
                    <a:lnTo>
                      <a:pt x="864" y="0"/>
                    </a:lnTo>
                    <a:lnTo>
                      <a:pt x="864" y="864"/>
                    </a:lnTo>
                    <a:lnTo>
                      <a:pt x="144" y="864"/>
                    </a:lnTo>
                    <a:lnTo>
                      <a:pt x="144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600" rIns="75600" tIns="37800" bIns="37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107360" y="3690000"/>
                <a:ext cx="1158480" cy="12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960" rIns="75960" tIns="37800" bIns="37800" anchor="ctr">
                <a:spAutoFit/>
              </a:bodyPr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Requirement</a:t>
                </a:r>
                <a:br>
                  <a:rPr sz="1300"/>
                </a:b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Concep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Feasibilit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Architectur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Analysi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1011240" y="1706760"/>
              <a:ext cx="1510560" cy="3823920"/>
              <a:chOff x="1011240" y="1706760"/>
              <a:chExt cx="1510560" cy="3823920"/>
            </a:xfrm>
          </p:grpSpPr>
          <p:sp>
            <p:nvSpPr>
              <p:cNvPr id="276" name=""/>
              <p:cNvSpPr/>
              <p:nvPr/>
            </p:nvSpPr>
            <p:spPr>
              <a:xfrm rot="16200000">
                <a:off x="457560" y="3466440"/>
                <a:ext cx="3823920" cy="3042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960" rIns="75960" tIns="37800" bIns="37800" anchor="ctr">
                <a:spAutoFit/>
              </a:bodyPr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500" spc="-1" strike="noStrike">
                    <a:solidFill>
                      <a:srgbClr val="000066"/>
                    </a:solidFill>
                    <a:latin typeface="Arial"/>
                  </a:rPr>
                  <a:t>Development of Capability Package (CP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74760" y="2019240"/>
                <a:ext cx="847440" cy="471960"/>
              </a:xfrm>
              <a:prstGeom prst="rect">
                <a:avLst/>
              </a:prstGeom>
              <a:solidFill>
                <a:srgbClr val="ddddd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960" rIns="75960" tIns="37800" bIns="37800" anchor="ctr">
                <a:spAutoFit/>
              </a:bodyPr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C3</a:t>
                </a:r>
                <a:br>
                  <a:rPr sz="1300"/>
                </a:b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Plann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011240" y="3014640"/>
                <a:ext cx="1158480" cy="273960"/>
              </a:xfrm>
              <a:prstGeom prst="rect">
                <a:avLst/>
              </a:prstGeom>
              <a:solidFill>
                <a:srgbClr val="ddddd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960" rIns="75960" tIns="37800" bIns="37800" anchor="ctr">
                <a:spAutoFit/>
              </a:bodyPr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Requiremen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2552760" y="1549440"/>
            <a:ext cx="1352160" cy="4124160"/>
            <a:chOff x="2552760" y="1549440"/>
            <a:chExt cx="1352160" cy="4124160"/>
          </a:xfrm>
        </p:grpSpPr>
        <p:sp>
          <p:nvSpPr>
            <p:cNvPr id="280" name=""/>
            <p:cNvSpPr/>
            <p:nvPr/>
          </p:nvSpPr>
          <p:spPr>
            <a:xfrm rot="16200000">
              <a:off x="1716840" y="3485520"/>
              <a:ext cx="4124160" cy="251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500" spc="-1" strike="noStrike">
                  <a:solidFill>
                    <a:srgbClr val="000066"/>
                  </a:solidFill>
                  <a:latin typeface="Arial"/>
                </a:rPr>
                <a:t>Approval of Capability Packa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52760" y="1838880"/>
              <a:ext cx="1017000" cy="7956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Policy &amp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Architectural</a:t>
              </a:r>
              <a:br>
                <a:rPr sz="1300"/>
              </a:b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Guida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65720" y="2743200"/>
              <a:ext cx="1017000" cy="7956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Operational</a:t>
              </a:r>
              <a:br>
                <a:rPr sz="1300"/>
              </a:b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Guida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65720" y="3647520"/>
              <a:ext cx="1017000" cy="795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Architectural</a:t>
              </a:r>
              <a:br>
                <a:rPr sz="1300"/>
              </a:b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&amp; technical</a:t>
              </a:r>
              <a:br>
                <a:rPr sz="1300"/>
              </a:b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desig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962520" y="1447560"/>
            <a:ext cx="1096920" cy="4136760"/>
            <a:chOff x="3962520" y="1447560"/>
            <a:chExt cx="1096920" cy="4136760"/>
          </a:xfrm>
        </p:grpSpPr>
        <p:sp>
          <p:nvSpPr>
            <p:cNvPr id="285" name=""/>
            <p:cNvSpPr/>
            <p:nvPr/>
          </p:nvSpPr>
          <p:spPr>
            <a:xfrm rot="16200000">
              <a:off x="2856960" y="3381840"/>
              <a:ext cx="4136760" cy="2682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500" spc="-1" strike="noStrike">
                  <a:solidFill>
                    <a:srgbClr val="000066"/>
                  </a:solidFill>
                  <a:latin typeface="Arial"/>
                </a:rPr>
                <a:t>Fund Authoris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14800" y="3552840"/>
              <a:ext cx="619200" cy="79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TBCE</a:t>
              </a:r>
              <a:br>
                <a:rPr sz="1300"/>
              </a:b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&amp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PI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62520" y="2325600"/>
              <a:ext cx="784080" cy="798480"/>
            </a:xfrm>
            <a:prstGeom prst="rect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Fund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pprov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95800" y="1523880"/>
            <a:ext cx="1106280" cy="4137120"/>
            <a:chOff x="5095800" y="1523880"/>
            <a:chExt cx="1106280" cy="4137120"/>
          </a:xfrm>
        </p:grpSpPr>
        <p:sp>
          <p:nvSpPr>
            <p:cNvPr id="289" name=""/>
            <p:cNvSpPr/>
            <p:nvPr/>
          </p:nvSpPr>
          <p:spPr>
            <a:xfrm rot="16200000">
              <a:off x="3999240" y="3458160"/>
              <a:ext cx="4137120" cy="268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500" spc="-1" strike="noStrike">
                  <a:solidFill>
                    <a:srgbClr val="000066"/>
                  </a:solidFill>
                  <a:latin typeface="Arial"/>
                </a:rPr>
                <a:t>Contract Awar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95800" y="3628440"/>
              <a:ext cx="764640" cy="79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IFB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95800" y="4499280"/>
              <a:ext cx="764640" cy="79848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Support</a:t>
              </a:r>
              <a:br>
                <a:rPr sz="1300"/>
              </a:b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&amp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co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95800" y="2757600"/>
              <a:ext cx="764640" cy="79848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Co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210360" y="1523880"/>
            <a:ext cx="1212480" cy="4137120"/>
            <a:chOff x="6210360" y="1523880"/>
            <a:chExt cx="1212480" cy="4137120"/>
          </a:xfrm>
        </p:grpSpPr>
        <p:sp>
          <p:nvSpPr>
            <p:cNvPr id="294" name=""/>
            <p:cNvSpPr/>
            <p:nvPr/>
          </p:nvSpPr>
          <p:spPr>
            <a:xfrm>
              <a:off x="6226920" y="4435920"/>
              <a:ext cx="873360" cy="870840"/>
            </a:xfrm>
            <a:prstGeom prst="flowChartManualInpu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6210360" y="1523880"/>
              <a:ext cx="1212480" cy="4137120"/>
              <a:chOff x="6210360" y="1523880"/>
              <a:chExt cx="1212480" cy="413712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6210360" y="1523880"/>
                <a:ext cx="1212480" cy="4137120"/>
                <a:chOff x="6210360" y="1523880"/>
                <a:chExt cx="1212480" cy="4137120"/>
              </a:xfrm>
            </p:grpSpPr>
            <p:sp>
              <p:nvSpPr>
                <p:cNvPr id="297" name=""/>
                <p:cNvSpPr/>
                <p:nvPr/>
              </p:nvSpPr>
              <p:spPr>
                <a:xfrm rot="16200000">
                  <a:off x="5219640" y="3457800"/>
                  <a:ext cx="4137120" cy="26892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560" rIns="79560" tIns="39600" bIns="39600" anchor="ctr">
                  <a:noAutofit/>
                </a:bodyPr>
                <a:p>
                  <a:pPr algn="ctr"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lang="en-US" sz="1500" spc="-1" strike="noStrike">
                      <a:solidFill>
                        <a:srgbClr val="000066"/>
                      </a:solidFill>
                      <a:latin typeface="Arial"/>
                    </a:rPr>
                    <a:t>IOC / FOC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10800000">
                  <a:off x="6226920" y="3628080"/>
                  <a:ext cx="873360" cy="870840"/>
                </a:xfrm>
                <a:prstGeom prst="flowChartManualInpu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0" rIns="792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210360" y="4642920"/>
                  <a:ext cx="932760" cy="65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560" rIns="79560" tIns="39600" bIns="39600" anchor="ctr">
                  <a:noAutofit/>
                </a:bodyPr>
                <a:p>
                  <a:pPr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lang="en-US" sz="1200" spc="-1" strike="noStrike">
                      <a:solidFill>
                        <a:srgbClr val="000066"/>
                      </a:solidFill>
                      <a:latin typeface="Arial"/>
                    </a:rPr>
                    <a:t>Implement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lang="en-US" sz="1200" spc="-1" strike="noStrike">
                      <a:solidFill>
                        <a:srgbClr val="000066"/>
                      </a:solidFill>
                      <a:latin typeface="Arial"/>
                    </a:rPr>
                    <a:t>comple-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66"/>
                      </a:solidFill>
                      <a:latin typeface="Arial"/>
                    </a:rPr>
                    <a:t>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6224040" y="3773880"/>
                <a:ext cx="90864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560" rIns="79560" tIns="39600" bIns="39600" anchor="ctr">
                <a:noAutofit/>
              </a:bodyPr>
              <a:p>
                <a:pPr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Imple-</a:t>
                </a:r>
                <a:br>
                  <a:rPr sz="1300"/>
                </a:b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menta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7462800" y="1523880"/>
            <a:ext cx="1546200" cy="4137120"/>
            <a:chOff x="7462800" y="1523880"/>
            <a:chExt cx="1546200" cy="4137120"/>
          </a:xfrm>
        </p:grpSpPr>
        <p:sp>
          <p:nvSpPr>
            <p:cNvPr id="302" name=""/>
            <p:cNvSpPr/>
            <p:nvPr/>
          </p:nvSpPr>
          <p:spPr>
            <a:xfrm rot="5400000">
              <a:off x="7980120" y="4647960"/>
              <a:ext cx="871560" cy="512640"/>
            </a:xfrm>
            <a:prstGeom prst="flowChartDocumen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P3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462800" y="1523880"/>
              <a:ext cx="1546200" cy="4137120"/>
              <a:chOff x="7462800" y="1523880"/>
              <a:chExt cx="1546200" cy="4137120"/>
            </a:xfrm>
          </p:grpSpPr>
          <p:sp>
            <p:nvSpPr>
              <p:cNvPr id="304" name=""/>
              <p:cNvSpPr/>
              <p:nvPr/>
            </p:nvSpPr>
            <p:spPr>
              <a:xfrm rot="16200000">
                <a:off x="6806160" y="3458160"/>
                <a:ext cx="4137120" cy="2682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360" rIns="72360" tIns="36360" bIns="36360" anchor="ctr">
                <a:noAutofit/>
              </a:bodyPr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500" spc="-1" strike="noStrike">
                    <a:solidFill>
                      <a:srgbClr val="000066"/>
                    </a:solidFill>
                    <a:latin typeface="Arial"/>
                  </a:rPr>
                  <a:t>Disposal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7491240" y="2757600"/>
                <a:ext cx="1180800" cy="798480"/>
                <a:chOff x="7491240" y="2757600"/>
                <a:chExt cx="1180800" cy="7984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7491240" y="2757600"/>
                  <a:ext cx="1180800" cy="798480"/>
                  <a:chOff x="7491240" y="2757600"/>
                  <a:chExt cx="1180800" cy="7984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rot="16200000">
                    <a:off x="7429320" y="2819520"/>
                    <a:ext cx="798480" cy="674640"/>
                  </a:xfrm>
                  <a:prstGeom prst="flowChartDocument">
                    <a:avLst/>
                  </a:prstGeom>
                  <a:solidFill>
                    <a:srgbClr val="dddddd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360" rIns="7236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5400000">
                    <a:off x="8019720" y="2903760"/>
                    <a:ext cx="798480" cy="506160"/>
                  </a:xfrm>
                  <a:prstGeom prst="flowChartDocument">
                    <a:avLst/>
                  </a:prstGeom>
                  <a:solidFill>
                    <a:srgbClr val="dddddd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360" rIns="7236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9" name=""/>
                <p:cNvSpPr/>
                <p:nvPr/>
              </p:nvSpPr>
              <p:spPr>
                <a:xfrm rot="16200000">
                  <a:off x="7357320" y="3015000"/>
                  <a:ext cx="755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360" rIns="72360" tIns="36360" bIns="36360" anchor="ctr">
                  <a:noAutofit/>
                </a:bodyPr>
                <a:p>
                  <a:pPr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lang="en-US" sz="1500" spc="-1" strike="noStrike">
                      <a:solidFill>
                        <a:srgbClr val="000066"/>
                      </a:solidFill>
                      <a:latin typeface="Arial"/>
                    </a:rPr>
                    <a:t>Usage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6200000">
                  <a:off x="8128080" y="3009600"/>
                  <a:ext cx="70020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360" rIns="72360" tIns="36360" bIns="36360" anchor="ctr">
                  <a:no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lang="en-US" sz="1300" spc="-1" strike="noStrike">
                      <a:solidFill>
                        <a:srgbClr val="000066"/>
                      </a:solidFill>
                      <a:latin typeface="Arial"/>
                    </a:rPr>
                    <a:t>End of</a:t>
                  </a:r>
                  <a:br>
                    <a:rPr sz="1300"/>
                  </a:br>
                  <a:r>
                    <a:rPr b="1" lang="en-US" sz="1300" spc="-1" strike="noStrike">
                      <a:solidFill>
                        <a:srgbClr val="000066"/>
                      </a:solidFill>
                      <a:latin typeface="Arial"/>
                    </a:rPr>
                    <a:t>cycle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7477200" y="4421160"/>
                <a:ext cx="682560" cy="954000"/>
                <a:chOff x="7477200" y="4421160"/>
                <a:chExt cx="682560" cy="954000"/>
              </a:xfrm>
            </p:grpSpPr>
            <p:sp>
              <p:nvSpPr>
                <p:cNvPr id="312" name=""/>
                <p:cNvSpPr/>
                <p:nvPr/>
              </p:nvSpPr>
              <p:spPr>
                <a:xfrm rot="16200000">
                  <a:off x="7382520" y="4562640"/>
                  <a:ext cx="871560" cy="682560"/>
                </a:xfrm>
                <a:prstGeom prst="flowChartDocument">
                  <a:avLst/>
                </a:prstGeom>
                <a:solidFill>
                  <a:srgbClr val="dddddd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360" rIns="7236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200000">
                  <a:off x="7282800" y="4669560"/>
                  <a:ext cx="954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360" rIns="72360" tIns="36360" bIns="36360" anchor="ctr">
                  <a:noAutofit/>
                </a:bodyPr>
                <a:p>
                  <a:pPr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lang="en-US" sz="1300" spc="-1" strike="noStrike">
                      <a:solidFill>
                        <a:srgbClr val="000066"/>
                      </a:solidFill>
                      <a:latin typeface="Arial"/>
                    </a:rPr>
                    <a:t>In service</a:t>
                  </a:r>
                  <a:br>
                    <a:rPr sz="1300"/>
                  </a:br>
                  <a:r>
                    <a:rPr b="1" lang="en-US" sz="1300" spc="-1" strike="noStrike">
                      <a:solidFill>
                        <a:srgbClr val="000066"/>
                      </a:solidFill>
                      <a:latin typeface="Arial"/>
                    </a:rPr>
                    <a:t>support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7462800" y="3846600"/>
                <a:ext cx="1209600" cy="290520"/>
              </a:xfrm>
              <a:prstGeom prst="rect">
                <a:avLst/>
              </a:prstGeom>
              <a:solidFill>
                <a:srgbClr val="00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360" rIns="72360" tIns="36360" bIns="36360" anchor="ctr">
                <a:noAutofit/>
              </a:bodyPr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Suppor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724280" y="2743200"/>
            <a:ext cx="0" cy="289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Tech Global Services (MGS) Organizational Structur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429000" y="1600200"/>
            <a:ext cx="2514600" cy="1218960"/>
            <a:chOff x="3429000" y="1600200"/>
            <a:chExt cx="2514600" cy="1218960"/>
          </a:xfrm>
        </p:grpSpPr>
        <p:sp>
          <p:nvSpPr>
            <p:cNvPr id="318" name=""/>
            <p:cNvSpPr/>
            <p:nvPr/>
          </p:nvSpPr>
          <p:spPr>
            <a:xfrm>
              <a:off x="3429000" y="1676160"/>
              <a:ext cx="251460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.J. Peder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irman of the Bo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ief Executive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29000" y="1600200"/>
              <a:ext cx="2514600" cy="5331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Tech Interna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rp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429000" y="3048120"/>
            <a:ext cx="2514600" cy="987120"/>
            <a:chOff x="3429000" y="3048120"/>
            <a:chExt cx="2514600" cy="987120"/>
          </a:xfrm>
        </p:grpSpPr>
        <p:sp>
          <p:nvSpPr>
            <p:cNvPr id="321" name=""/>
            <p:cNvSpPr/>
            <p:nvPr/>
          </p:nvSpPr>
          <p:spPr>
            <a:xfrm>
              <a:off x="3429000" y="3109320"/>
              <a:ext cx="2514600" cy="92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.A. Cole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sident &amp; CO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29000" y="3048120"/>
              <a:ext cx="2514600" cy="4316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Tech Interna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rp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581280" y="4267080"/>
            <a:ext cx="2286000" cy="1066680"/>
            <a:chOff x="3581280" y="4267080"/>
            <a:chExt cx="2286000" cy="1066680"/>
          </a:xfrm>
        </p:grpSpPr>
        <p:sp>
          <p:nvSpPr>
            <p:cNvPr id="324" name=""/>
            <p:cNvSpPr/>
            <p:nvPr/>
          </p:nvSpPr>
          <p:spPr>
            <a:xfrm>
              <a:off x="3581280" y="4333320"/>
              <a:ext cx="2286000" cy="100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.W. Kell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sid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81280" y="4267080"/>
              <a:ext cx="2286000" cy="4665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Tech Global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rp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581280" y="5562720"/>
            <a:ext cx="2286000" cy="1066320"/>
            <a:chOff x="3581280" y="5562720"/>
            <a:chExt cx="2286000" cy="1066320"/>
          </a:xfrm>
        </p:grpSpPr>
        <p:sp>
          <p:nvSpPr>
            <p:cNvPr id="327" name=""/>
            <p:cNvSpPr/>
            <p:nvPr/>
          </p:nvSpPr>
          <p:spPr>
            <a:xfrm>
              <a:off x="3581280" y="5628960"/>
              <a:ext cx="2286000" cy="10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.E. Mar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ecutive Dir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81280" y="5562720"/>
              <a:ext cx="2286000" cy="4665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Tech Global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rp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Tech Global Services NATO Proces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Points of Contact (POCs) for Each Business Unit (BU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mprehensive Overview of NATO Business Opportunit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y Support Boar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Cross-Corporate Capabilit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eminate Opportunity and Relevant Documentation to BU POC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Relationships w/European Compan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Teaming w/European Compan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R/EA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724280" y="914400"/>
            <a:ext cx="4141800" cy="28544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0" y="1324080"/>
            <a:ext cx="4130640" cy="28670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019920" y="1828800"/>
            <a:ext cx="987480" cy="2919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1219320" y="2057400"/>
            <a:ext cx="987480" cy="2919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335" name=""/>
          <p:cNvSpPr/>
          <p:nvPr/>
        </p:nvSpPr>
        <p:spPr>
          <a:xfrm>
            <a:off x="915480" y="2362320"/>
            <a:ext cx="171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ManTech Glob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563800" y="2133720"/>
            <a:ext cx="235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ManTech Global Services - Bruss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38098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24280" y="3962520"/>
            <a:ext cx="441972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nTech Global Services – Branch Off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russels, Belg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ManTech Interface to U.S. Mis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pport Documen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acilitate Customer Visi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rketing/Customer Rel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eign Teaming Recommend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ManTech Face To NATO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3962520"/>
            <a:ext cx="411480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nTech Global Services Corpo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ra-ManTech Coordination for NATO Bi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am ManTech Approach to Bi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SG, IS&amp;T, SM&amp;A, M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TAR/EAR Review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pportunity Support Board (OSB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ATO Security/Clearance Coord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ATO Proposal Sup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am ManTech Approach to NATO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66680" y="380880"/>
            <a:ext cx="71136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Tech NATO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455400"/>
            <a:ext cx="8734320" cy="70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ing Business With NATO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0637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s between DoD and NATO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Money vs IDIQ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FP is the Standar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EBIT Potential (Fees &gt;15%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st Priced Compliant Bid Wi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d Bonds, Performance Bonds, and Liquidated Damag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st of Money  (Euros vs Dollar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posals in English or Host Sponsored National Languag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Formal Than DoD Submissio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ed on “Shall” Statements…not “Will” or Must”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Tech Global Servic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Opportun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C3A - IFB CO-12369-NRF (DCIS) (w/Lockheed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C3A - Kandahar CIS O&amp;M (€74 Million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C3A - HQ Kabul CIS O&amp;M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C3A - Intel F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C3A - Logistics F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C3A - NNCC (w/Siemens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C3A – Bi-SC PMIC (€22 Million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C3A - Area 7 SSC Re-Compet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C3A - VTC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MA - SMIS Re-Compete (Extension?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MA - TMD Industrial Suppor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O HQ - CIS Services Contrac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CT - SHAPE PMO (4 + 4 for 4-6 years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C3A - Balkans CIS O&amp;M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FCHQ - KAIA CIS O&amp;M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Tech Global Services Corpor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ussels, Belgium Branch Establish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March 2008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810640" cy="70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O Security/Intel Opportun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28600" y="1143000"/>
          <a:ext cx="8915400" cy="5522760"/>
        </p:xfrm>
        <a:graphic>
          <a:graphicData uri="http://schemas.openxmlformats.org/drawingml/2006/table">
            <a:tbl>
              <a:tblPr/>
              <a:tblGrid>
                <a:gridCol w="1432080"/>
                <a:gridCol w="1579320"/>
                <a:gridCol w="5904000"/>
              </a:tblGrid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/0IS030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7,899,64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 "B" Cost Estimate - Develop Intelligence Functional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NTEL-FS)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iral I - Initial Operational Cap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CM03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5,715,10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 NATO On-Line Crypto Equi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CM03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,685,07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 NATO Off-Line Crypto Equi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CM03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,810,41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 NATO Secure Information Exchange Interfa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CM03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,263,70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 NATO INFOSEC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CM03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455,12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 NATO INFOSEC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CM030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476,80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 NATO P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IS03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2,274,35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 NATO Computer Incident Response Capability (NCIRC) &amp; Intrusion Detection System (IDS), Final Operational Capability (FO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IS03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137,28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 NATO Electronic Key Management System (NEKM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IS03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,194,83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 NATO Secure Information Exchange Interfa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IS03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,524,28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 NATO INFOSEC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IS03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571,22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 NATO INFOSEC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IS030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675,46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 NATO P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24,683,26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Tech Global Servic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tential Business Area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O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Monetary Fun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Trade Organiz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Un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Contro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Patent Offi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National Business Opportunit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Government Opportunit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6213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GSC NATO Opera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61722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adquartered in Brussels, Belgiu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quisition Engineering &amp; Procurement Sup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on System Engineering &amp; Integ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pment Procurement &amp; Maintenanc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act Management Sup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s Learned Analysi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Suppor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Developmen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554880" y="22287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6603840" y="38088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477120" y="4648320"/>
            <a:ext cx="823680" cy="10047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6400800" y="3276720"/>
            <a:ext cx="824040" cy="1066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5"/>
          <a:stretch/>
        </p:blipFill>
        <p:spPr>
          <a:xfrm>
            <a:off x="7696080" y="3733920"/>
            <a:ext cx="968400" cy="9684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533520" y="5486400"/>
            <a:ext cx="574812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~90 ManTech Local Staff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ludes Consultants &amp; Sub-contr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ghanistan, Belgium, Iraq, Kosovo, Luxembourg, Netherlands, &amp; 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7543800" y="2666880"/>
            <a:ext cx="1025640" cy="7765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7848720" y="5029200"/>
            <a:ext cx="67932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212760" y="2070000"/>
            <a:ext cx="871848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O Consultation, Command and Control Agency (NC3A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O Maintenance and Supply Agency (NAMSA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O  Communications &amp; Information Systems Services Agency (NCSA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O HQ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ied Joint Force Headquarters Brunssum (JFCHQ-B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ied Joint Force Headquarters Naples (JFCHQ-N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jor NATO Organisations of Interes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Ps of Interest - Curre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A0104 – Core Communication Network Services NATO-Wide Capability Packag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A0149 – NATO Deployable C2 Asse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A0149 (A1) – NATO NRF DCIS Capabili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A0149 (A2) – Provide CJTF DCIS TC Capabili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A1303 – Theatre Missile Defen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A0050/9B0020 – Provide Bi-SC Static AIS Core Capabili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A0109 – Air Command and Control System (ACCS) Foundation Capabili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A01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0,187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A014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0,654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A0149 (A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5,817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A0149 (A2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talled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A130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7,777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A0050/9B00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1,179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A010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1,728,612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Ps of Interest – Curr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Value (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A0104 – Core Communication Network Services NATO-Wide Capability Packa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rovide the fixed static network or core communication services in support of Alliance C3 and Non-C3 requirements associated with Partner Coalition and Exercise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y the infrastructure foundation for the future NATO Network Enabled Capability – Effect Based Operations.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an open network accessible to Non-NATO entities while allowing users to exploit all available services including publi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ment 250M€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P Programmed April 2005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A0104 – Projec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266760" y="1327320"/>
            <a:ext cx="8639280" cy="4946040"/>
            <a:chOff x="266760" y="1327320"/>
            <a:chExt cx="8639280" cy="4946040"/>
          </a:xfrm>
        </p:grpSpPr>
        <p:sp>
          <p:nvSpPr>
            <p:cNvPr id="371" name=""/>
            <p:cNvSpPr/>
            <p:nvPr/>
          </p:nvSpPr>
          <p:spPr>
            <a:xfrm>
              <a:off x="7732440" y="2019960"/>
              <a:ext cx="116748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,18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15600" y="2019960"/>
              <a:ext cx="8168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C3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05400" y="2019960"/>
              <a:ext cx="51098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 Packet Transport Component (PTC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3560" y="2019960"/>
              <a:ext cx="10418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CM030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2520" y="2019960"/>
              <a:ext cx="4910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15600" y="5186520"/>
              <a:ext cx="816840" cy="532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C3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15600" y="4821480"/>
              <a:ext cx="8168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C3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915600" y="4456440"/>
              <a:ext cx="816840" cy="365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C3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15600" y="4091400"/>
              <a:ext cx="8168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C3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15600" y="3726720"/>
              <a:ext cx="8168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C3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915600" y="2749680"/>
              <a:ext cx="816840" cy="61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C3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915600" y="2385000"/>
              <a:ext cx="8168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C3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15600" y="1655280"/>
              <a:ext cx="8168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C3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915600" y="1327320"/>
              <a:ext cx="816840" cy="327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32440" y="5197320"/>
              <a:ext cx="1167480" cy="538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4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32440" y="4821480"/>
              <a:ext cx="116748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28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732440" y="4456440"/>
              <a:ext cx="1167480" cy="365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732440" y="4091400"/>
              <a:ext cx="116748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732440" y="3726720"/>
              <a:ext cx="116748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85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32440" y="2749680"/>
              <a:ext cx="1167480" cy="61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,3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32440" y="2385000"/>
              <a:ext cx="116748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3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32440" y="1655280"/>
              <a:ext cx="116748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,75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32440" y="1327320"/>
              <a:ext cx="1167480" cy="327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lue(K€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3560" y="5186520"/>
              <a:ext cx="1041840" cy="534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CM0303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2520" y="5186520"/>
              <a:ext cx="491040" cy="532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05400" y="4821480"/>
              <a:ext cx="51098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plicate NGCS Capability into Future Accession N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3560" y="4821480"/>
              <a:ext cx="10418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CM030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2520" y="4821480"/>
              <a:ext cx="4910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05400" y="4456440"/>
              <a:ext cx="5109840" cy="365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ide Public Information Acc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3560" y="4456440"/>
              <a:ext cx="1041840" cy="365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CM0303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2520" y="4456440"/>
              <a:ext cx="491040" cy="365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05400" y="4091400"/>
              <a:ext cx="51098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ide Network Service Extension Beyond NA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3560" y="4091400"/>
              <a:ext cx="10418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CM030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2520" y="4091400"/>
              <a:ext cx="4910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05400" y="3726720"/>
              <a:ext cx="51098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ide Network Service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3560" y="3726720"/>
              <a:ext cx="10418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CM0302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2520" y="3726720"/>
              <a:ext cx="4910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05400" y="2749680"/>
              <a:ext cx="5109840" cy="61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ide Studio Video Teleconference (VTC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3560" y="2749680"/>
              <a:ext cx="1041840" cy="61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CM0302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72520" y="2749680"/>
              <a:ext cx="491040" cy="61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05400" y="2385000"/>
              <a:ext cx="51098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ide Network-Network Gateway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3560" y="2385000"/>
              <a:ext cx="10418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CM0302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72520" y="2385000"/>
              <a:ext cx="4910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805400" y="1655280"/>
              <a:ext cx="51098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ide Circuit Switched Component (CSC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63560" y="1655280"/>
              <a:ext cx="10418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CM030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2520" y="1655280"/>
              <a:ext cx="491040" cy="36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05400" y="1327320"/>
              <a:ext cx="5109840" cy="327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ject Title and Lo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3560" y="1327320"/>
              <a:ext cx="1041840" cy="327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2520" y="1327320"/>
              <a:ext cx="491040" cy="327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3560" y="1327320"/>
              <a:ext cx="0" cy="32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805400" y="1327320"/>
              <a:ext cx="0" cy="32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15600" y="1327320"/>
              <a:ext cx="0" cy="32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2520" y="2019960"/>
              <a:ext cx="862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2520" y="2749680"/>
              <a:ext cx="862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2520" y="3146040"/>
              <a:ext cx="862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2520" y="3726720"/>
              <a:ext cx="862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2520" y="4091400"/>
              <a:ext cx="862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2520" y="4456440"/>
              <a:ext cx="862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2520" y="4821480"/>
              <a:ext cx="862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2520" y="5186520"/>
              <a:ext cx="862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2520" y="1327320"/>
              <a:ext cx="86274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520" y="1327320"/>
              <a:ext cx="0" cy="3279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900280" y="1327320"/>
              <a:ext cx="0" cy="3279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732440" y="1327320"/>
              <a:ext cx="0" cy="32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2520" y="6098760"/>
              <a:ext cx="862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2520" y="2385000"/>
              <a:ext cx="862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6760" y="1655280"/>
              <a:ext cx="12960" cy="45741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900280" y="1655280"/>
              <a:ext cx="0" cy="45964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2520" y="1655280"/>
              <a:ext cx="86274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285840" y="3159000"/>
              <a:ext cx="8600760" cy="567000"/>
              <a:chOff x="285840" y="3159000"/>
              <a:chExt cx="8600760" cy="567000"/>
            </a:xfrm>
          </p:grpSpPr>
          <p:sp>
            <p:nvSpPr>
              <p:cNvPr id="441" name=""/>
              <p:cNvSpPr/>
              <p:nvPr/>
            </p:nvSpPr>
            <p:spPr>
              <a:xfrm>
                <a:off x="6908400" y="3159000"/>
                <a:ext cx="814320" cy="567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50760" bIns="50760" anchor="t">
                <a:normAutofit/>
              </a:bodyPr>
              <a:p>
                <a:pPr>
                  <a:spcBef>
                    <a:spcPts val="249"/>
                  </a:spcBef>
                  <a:tabLst>
                    <a:tab algn="l" pos="0"/>
                    <a:tab algn="l" pos="560520"/>
                    <a:tab algn="l" pos="1120680"/>
                    <a:tab algn="l" pos="1681200"/>
                    <a:tab algn="l" pos="2241720"/>
                    <a:tab algn="l" pos="2801880"/>
                    <a:tab algn="l" pos="3362400"/>
                    <a:tab algn="l" pos="3922560"/>
                    <a:tab algn="l" pos="4483080"/>
                    <a:tab algn="l" pos="5043600"/>
                    <a:tab algn="l" pos="5603760"/>
                    <a:tab algn="l" pos="6164280"/>
                    <a:tab algn="l" pos="6724800"/>
                    <a:tab algn="l" pos="7284960"/>
                    <a:tab algn="l" pos="7845480"/>
                    <a:tab algn="l" pos="8405640"/>
                    <a:tab algn="l" pos="8966160"/>
                    <a:tab algn="l" pos="9526680"/>
                    <a:tab algn="l" pos="10086840"/>
                    <a:tab algn="l" pos="10647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NC3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722720" y="3159000"/>
                <a:ext cx="1163880" cy="567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50760" bIns="50760" anchor="t">
                <a:normAutofit/>
              </a:bodyPr>
              <a:p>
                <a:pPr>
                  <a:spcBef>
                    <a:spcPts val="249"/>
                  </a:spcBef>
                  <a:tabLst>
                    <a:tab algn="l" pos="0"/>
                    <a:tab algn="l" pos="560520"/>
                    <a:tab algn="l" pos="1120680"/>
                    <a:tab algn="l" pos="1681200"/>
                    <a:tab algn="l" pos="2241720"/>
                    <a:tab algn="l" pos="2801880"/>
                    <a:tab algn="l" pos="3362400"/>
                    <a:tab algn="l" pos="3922560"/>
                    <a:tab algn="l" pos="4483080"/>
                    <a:tab algn="l" pos="5043600"/>
                    <a:tab algn="l" pos="5603760"/>
                    <a:tab algn="l" pos="6164280"/>
                    <a:tab algn="l" pos="6724800"/>
                    <a:tab algn="l" pos="7284960"/>
                    <a:tab algn="l" pos="7845480"/>
                    <a:tab algn="l" pos="8405640"/>
                    <a:tab algn="l" pos="8966160"/>
                    <a:tab algn="l" pos="9526680"/>
                    <a:tab algn="l" pos="10086840"/>
                    <a:tab algn="l" pos="10647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25,97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814040" y="3159000"/>
                <a:ext cx="5094000" cy="567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50760" bIns="50760" anchor="t">
                <a:normAutofit/>
              </a:bodyPr>
              <a:p>
                <a:pPr>
                  <a:spcBef>
                    <a:spcPts val="249"/>
                  </a:spcBef>
                  <a:tabLst>
                    <a:tab algn="l" pos="0"/>
                    <a:tab algn="l" pos="171360"/>
                    <a:tab algn="l" pos="351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vide Network Transmission Services &amp; Bandwidth Management Capabil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75440" y="3159000"/>
                <a:ext cx="1038600" cy="567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50760" bIns="50760" anchor="t">
                <a:normAutofit/>
              </a:bodyPr>
              <a:p>
                <a:pPr>
                  <a:spcBef>
                    <a:spcPts val="249"/>
                  </a:spcBef>
                  <a:tabLst>
                    <a:tab algn="l" pos="0"/>
                    <a:tab algn="l" pos="171360"/>
                    <a:tab algn="l" pos="3510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0CM0302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85840" y="3159000"/>
                <a:ext cx="489600" cy="567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50760" bIns="50760" anchor="t">
                <a:norm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1805400" y="5202720"/>
              <a:ext cx="5109840" cy="532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ide PMO To Exercise Configuration Management &amp; Life Cycle Support Through Transi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21360" y="5718960"/>
              <a:ext cx="816840" cy="532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C3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738560" y="5718960"/>
              <a:ext cx="116748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8320" y="5718960"/>
              <a:ext cx="1041840" cy="534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CM030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87280" y="5718960"/>
              <a:ext cx="491040" cy="532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20160" y="5735520"/>
              <a:ext cx="5110200" cy="51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50760" bIns="50760" anchor="t">
              <a:normAutofit/>
            </a:bodyPr>
            <a:p>
              <a:pPr>
                <a:spcBef>
                  <a:spcPts val="249"/>
                </a:spcBef>
                <a:tabLst>
                  <a:tab algn="l" pos="0"/>
                  <a:tab algn="l" pos="171360"/>
                  <a:tab algn="l" pos="351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ide Management of the Incremental Implementation of Network Ser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2520" y="5733360"/>
              <a:ext cx="862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05400" y="1655280"/>
              <a:ext cx="0" cy="456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3560" y="1655280"/>
              <a:ext cx="0" cy="461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15600" y="1655280"/>
              <a:ext cx="0" cy="456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7723440" y="1655280"/>
              <a:ext cx="8280" cy="458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2520" y="6248160"/>
              <a:ext cx="862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A0104 - Main Themes for 2009 - 2012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vice Convergence on IP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gration to IPv6 and Challenges of co-existenc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d-2-End Application Level QoS to ensure Mission critical Traffic is delivered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lligent Bandwidth Utilisation in permanent under dimensioned network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ll Integration of National Defence Networks via NATO International Capability – Federation of Network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vice Management in multi network environment (NGOSS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proved Wave Forms – Enhanced HF Services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bust Resilient Network capability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-hoc Networking Capability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lf Healing auto configurable Network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munication Infrastructure underpinning the NII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ion of Open network to support coalition and non military operation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C0101 – Wireless Communication Transmission Servic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C0102 – Lifecycle Support Services for NATO CI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C0103 – Functional Services for Logistic C2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C0107 – Functional Information Processing Servic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C0130 – Satellite Communication Transmission Servic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C0150 – Core Information Services for NATO C2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C0402 – Joint Advanced Distributed Learn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C1000 – Plans and Polic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C1100 – Combined Joint Opera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Ps of Interest - Upcom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Tech at a Glan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nded in 1968; IPO February 2002, NASDAQ: MAN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ding provider of information technology services and secure systems solution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90% of revenue from Intelligence Community (IC) and Department of Defense (DoD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 sales ~ $1.9 Billion (up 27% from 2007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,000 + Employees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5% hold active security clearances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% Special access clearances (SCI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Presenc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0 Locations World-wide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4 Countries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 States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l positioned for growth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red, qualified, well trained employee base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novative solutions (Services &amp; Products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lture based on mission support, high quality, trust, integrity &amp; ethics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3A-BE Contracts &gt;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€500 Million Annuall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SA Contracts &gt;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€690 Million Annuall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SA Contracts  &gt;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€100 Million Annuall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nTech has an outstanding reputation within NATO and especially with these three organisation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2743200" y="297180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Arial"/>
              </a:rPr>
              <a:t>Questions ?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Market Focu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ligence and Homeland Securit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A  (CTC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  (JITF-CT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HS  (IA/IP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TC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BI  (Office of InteI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GA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RO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SA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Stat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y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y/Marine Corp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 Forc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D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Organizatio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O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Monetary Fund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ld Trade Organiz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Un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Contro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e Service Offerings and Pro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 Service Offering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Technology/Information Assuranc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ligence Analysis/Mission Operation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Engineering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s and Field Engineering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ative Customer Program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my - Logistics Readiness Service Center (LRC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r Force – Information Technology Support Program III (ITSP-II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vy - Command Network (CNET) /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BI - SCI-Online (SCION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 - Joint Regional Information Exchange System (JRIES) / DHS - Homeland Security Information System (HSIN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D - Counter Intelligence Field Activity (CIFA) / DoJ – Sensitive Intelligence Program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SA – National Threat Operations Cente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A – JTF-Global Network Operations Cente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TM-I – CIS O&amp;M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CMA – System Management Industrial Support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3A – Support Services Contract (Acquisition Support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Tech Core Disciplin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Technology Solution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s Integration Service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4I System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communication System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 Systems and Infrastructure Service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Architecture Solution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s/Network Maintenance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and Wide Area Network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ware Development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lp Desk Support Servic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s Engineering Solution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s Life Cycle Support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&amp; Evaluation and IV&amp;V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ed Logistical Support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ing &amp; Simulation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Systems Engineering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e Systems &amp; Infrastructure Solution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ligence Operation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feguarding Critical Infrastructure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Assuranc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recy Management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nter-Terrorism Vulnerability &amp; Threat Assessment Analysi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Signal Processing System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371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echnology-Based Solutions on a Global Basis  - 3 Principle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ATO Organizational &amp; Acquisition Structure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09480"/>
            <a:ext cx="9144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1295280"/>
            <a:ext cx="7772400" cy="5053680"/>
            <a:chOff x="533520" y="1295280"/>
            <a:chExt cx="7772400" cy="5053680"/>
          </a:xfrm>
        </p:grpSpPr>
        <p:cxnSp>
          <p:nvCxnSpPr>
            <p:cNvPr id="98" name="_s21533"/>
            <p:cNvCxnSpPr>
              <a:stCxn id="99" idx="0"/>
              <a:endCxn id="100" idx="2"/>
            </p:cNvCxnSpPr>
            <p:nvPr/>
          </p:nvCxnSpPr>
          <p:spPr>
            <a:xfrm flipV="1" rot="16200000">
              <a:off x="6314760" y="2010960"/>
              <a:ext cx="1009800" cy="1600920"/>
            </a:xfrm>
            <a:prstGeom prst="bentConnector3">
              <a:avLst>
                <a:gd name="adj1" fmla="val 113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1532"/>
            <p:cNvCxnSpPr>
              <a:stCxn id="102" idx="0"/>
              <a:endCxn id="100" idx="2"/>
            </p:cNvCxnSpPr>
            <p:nvPr/>
          </p:nvCxnSpPr>
          <p:spPr>
            <a:xfrm flipV="1">
              <a:off x="6019920" y="2306520"/>
              <a:ext cx="2160" cy="100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1515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5515560" y="3231720"/>
              <a:ext cx="1008720" cy="3201120"/>
            </a:xfrm>
            <a:prstGeom prst="bentConnector3">
              <a:avLst>
                <a:gd name="adj1" fmla="val 113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21516"/>
            <p:cNvCxnSpPr>
              <a:stCxn id="107" idx="0"/>
              <a:endCxn id="105" idx="2"/>
            </p:cNvCxnSpPr>
            <p:nvPr/>
          </p:nvCxnSpPr>
          <p:spPr>
            <a:xfrm flipV="1" rot="16200000">
              <a:off x="4715280" y="4032000"/>
              <a:ext cx="1008720" cy="1600920"/>
            </a:xfrm>
            <a:prstGeom prst="bentConnector3">
              <a:avLst>
                <a:gd name="adj1" fmla="val 113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1517"/>
            <p:cNvCxnSpPr>
              <a:stCxn id="109" idx="0"/>
              <a:endCxn id="105" idx="2"/>
            </p:cNvCxnSpPr>
            <p:nvPr/>
          </p:nvCxnSpPr>
          <p:spPr>
            <a:xfrm flipV="1">
              <a:off x="4419720" y="4328280"/>
              <a:ext cx="2160" cy="100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1518"/>
            <p:cNvCxnSpPr>
              <a:stCxn id="111" idx="0"/>
              <a:endCxn id="105" idx="2"/>
            </p:cNvCxnSpPr>
            <p:nvPr/>
          </p:nvCxnSpPr>
          <p:spPr>
            <a:xfrm flipH="1" flipV="1" rot="5400000">
              <a:off x="3115080" y="4032000"/>
              <a:ext cx="1008720" cy="1600920"/>
            </a:xfrm>
            <a:prstGeom prst="bentConnector3">
              <a:avLst>
                <a:gd name="adj1" fmla="val 113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21519"/>
            <p:cNvCxnSpPr>
              <a:stCxn id="113" idx="0"/>
              <a:endCxn id="105" idx="2"/>
            </p:cNvCxnSpPr>
            <p:nvPr/>
          </p:nvCxnSpPr>
          <p:spPr>
            <a:xfrm flipH="1" flipV="1" rot="5400000">
              <a:off x="2315160" y="3232080"/>
              <a:ext cx="1008720" cy="3201120"/>
            </a:xfrm>
            <a:prstGeom prst="bentConnector3">
              <a:avLst>
                <a:gd name="adj1" fmla="val 113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21521"/>
            <p:cNvCxnSpPr>
              <a:stCxn id="105" idx="0"/>
              <a:endCxn id="100" idx="2"/>
            </p:cNvCxnSpPr>
            <p:nvPr/>
          </p:nvCxnSpPr>
          <p:spPr>
            <a:xfrm flipH="1" flipV="1" rot="5400000">
              <a:off x="4714920" y="2010960"/>
              <a:ext cx="1009800" cy="1600920"/>
            </a:xfrm>
            <a:prstGeom prst="bentConnector3">
              <a:avLst>
                <a:gd name="adj1" fmla="val 113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0" name="_s21522"/>
            <p:cNvSpPr/>
            <p:nvPr/>
          </p:nvSpPr>
          <p:spPr>
            <a:xfrm>
              <a:off x="5334120" y="129528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ort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tlan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unc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1523"/>
            <p:cNvSpPr/>
            <p:nvPr/>
          </p:nvSpPr>
          <p:spPr>
            <a:xfrm>
              <a:off x="3733920" y="331668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TO H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russels, 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1525"/>
            <p:cNvSpPr/>
            <p:nvPr/>
          </p:nvSpPr>
          <p:spPr>
            <a:xfrm>
              <a:off x="533520" y="533700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M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1526"/>
            <p:cNvSpPr/>
            <p:nvPr/>
          </p:nvSpPr>
          <p:spPr>
            <a:xfrm>
              <a:off x="2133720" y="533700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C3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1527"/>
            <p:cNvSpPr/>
            <p:nvPr/>
          </p:nvSpPr>
          <p:spPr>
            <a:xfrm>
              <a:off x="3733920" y="533700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C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21528"/>
            <p:cNvSpPr/>
            <p:nvPr/>
          </p:nvSpPr>
          <p:spPr>
            <a:xfrm>
              <a:off x="5334120" y="5337000"/>
              <a:ext cx="1371600" cy="10090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C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1529"/>
            <p:cNvSpPr/>
            <p:nvPr/>
          </p:nvSpPr>
          <p:spPr>
            <a:xfrm>
              <a:off x="6934320" y="533700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st N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1530"/>
            <p:cNvSpPr/>
            <p:nvPr/>
          </p:nvSpPr>
          <p:spPr>
            <a:xfrm>
              <a:off x="5334120" y="331668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1531"/>
            <p:cNvSpPr/>
            <p:nvPr/>
          </p:nvSpPr>
          <p:spPr>
            <a:xfrm>
              <a:off x="6934320" y="331668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5400"/>
            <a:ext cx="8734320" cy="70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O Strategic Comman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1612800"/>
            <a:ext cx="8228520" cy="2349360"/>
            <a:chOff x="457200" y="1612800"/>
            <a:chExt cx="8228520" cy="2349360"/>
          </a:xfrm>
        </p:grpSpPr>
        <p:cxnSp>
          <p:nvCxnSpPr>
            <p:cNvPr id="117" name="_s22536"/>
            <p:cNvCxnSpPr>
              <a:stCxn id="118" idx="0"/>
              <a:endCxn id="119" idx="2"/>
            </p:cNvCxnSpPr>
            <p:nvPr/>
          </p:nvCxnSpPr>
          <p:spPr>
            <a:xfrm flipV="1" rot="16200000">
              <a:off x="5532120" y="2116800"/>
              <a:ext cx="294120" cy="2221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22537"/>
            <p:cNvCxnSpPr>
              <a:stCxn id="121" idx="0"/>
              <a:endCxn id="119" idx="2"/>
            </p:cNvCxnSpPr>
            <p:nvPr/>
          </p:nvCxnSpPr>
          <p:spPr>
            <a:xfrm flipH="1" flipV="1" rot="5400000">
              <a:off x="3315960" y="2121480"/>
              <a:ext cx="294120" cy="2212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2538"/>
            <p:cNvCxnSpPr>
              <a:stCxn id="119" idx="0"/>
              <a:endCxn id="123" idx="2"/>
            </p:cNvCxnSpPr>
            <p:nvPr/>
          </p:nvCxnSpPr>
          <p:spPr>
            <a:xfrm flipV="1">
              <a:off x="4568760" y="2199240"/>
              <a:ext cx="5400" cy="294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_s22539"/>
            <p:cNvSpPr/>
            <p:nvPr/>
          </p:nvSpPr>
          <p:spPr>
            <a:xfrm>
              <a:off x="2669040" y="1612800"/>
              <a:ext cx="3799800" cy="5871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North Atlantic Counci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2540"/>
            <p:cNvSpPr/>
            <p:nvPr/>
          </p:nvSpPr>
          <p:spPr>
            <a:xfrm>
              <a:off x="2669040" y="2493720"/>
              <a:ext cx="3799800" cy="5871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T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ACE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ns, Belgi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2541"/>
            <p:cNvSpPr/>
            <p:nvPr/>
          </p:nvSpPr>
          <p:spPr>
            <a:xfrm>
              <a:off x="457200" y="3375000"/>
              <a:ext cx="3799800" cy="5871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Allied Command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Operations (ACO) Mons, Belgiu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2542"/>
            <p:cNvSpPr/>
            <p:nvPr/>
          </p:nvSpPr>
          <p:spPr>
            <a:xfrm>
              <a:off x="4890240" y="3375000"/>
              <a:ext cx="3795480" cy="5871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Allied Command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Transformation (ACT)  -  Norfolk, V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57200" y="4114800"/>
            <a:ext cx="3809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t Force Command AFNORTH (N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ghanistan (ISAF) 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t Force Command AFSOUTH (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aq (NTM-I) 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4114800"/>
            <a:ext cx="4114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t Warfare Training Center (JWTC)  (PL) 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t Warfare Center  (JWC) (NO) 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t Analysis Lessons Learned Center (JALLC) (PO) 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98720" y="5943600"/>
            <a:ext cx="34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ManTech h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455400"/>
            <a:ext cx="8962920" cy="70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O Acquisition Organiza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57200" y="1295280"/>
            <a:ext cx="8229600" cy="3796920"/>
            <a:chOff x="457200" y="1295280"/>
            <a:chExt cx="8229600" cy="3796920"/>
          </a:xfrm>
        </p:grpSpPr>
        <p:cxnSp>
          <p:nvCxnSpPr>
            <p:cNvPr id="129" name="_s23559"/>
            <p:cNvCxnSpPr>
              <a:stCxn id="130" idx="0"/>
              <a:endCxn id="131" idx="2"/>
            </p:cNvCxnSpPr>
            <p:nvPr/>
          </p:nvCxnSpPr>
          <p:spPr>
            <a:xfrm flipV="1" rot="16200000">
              <a:off x="3712320" y="2233440"/>
              <a:ext cx="345240" cy="1919880"/>
            </a:xfrm>
            <a:prstGeom prst="bentConnector3">
              <a:avLst>
                <a:gd name="adj1" fmla="val 329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3560"/>
            <p:cNvCxnSpPr>
              <a:stCxn id="133" idx="0"/>
              <a:endCxn id="131" idx="2"/>
            </p:cNvCxnSpPr>
            <p:nvPr/>
          </p:nvCxnSpPr>
          <p:spPr>
            <a:xfrm flipV="1" rot="16200000">
              <a:off x="3072600" y="2873160"/>
              <a:ext cx="345240" cy="640440"/>
            </a:xfrm>
            <a:prstGeom prst="bentConnector3">
              <a:avLst>
                <a:gd name="adj1" fmla="val 329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3561"/>
            <p:cNvCxnSpPr>
              <a:stCxn id="135" idx="0"/>
              <a:endCxn id="131" idx="2"/>
            </p:cNvCxnSpPr>
            <p:nvPr/>
          </p:nvCxnSpPr>
          <p:spPr>
            <a:xfrm flipH="1" flipV="1" rot="5400000">
              <a:off x="2433240" y="2873160"/>
              <a:ext cx="345240" cy="640440"/>
            </a:xfrm>
            <a:prstGeom prst="bentConnector3">
              <a:avLst>
                <a:gd name="adj1" fmla="val 329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23562"/>
            <p:cNvCxnSpPr>
              <a:stCxn id="137" idx="0"/>
              <a:endCxn id="131" idx="2"/>
            </p:cNvCxnSpPr>
            <p:nvPr/>
          </p:nvCxnSpPr>
          <p:spPr>
            <a:xfrm flipH="1" flipV="1" rot="5400000">
              <a:off x="1793520" y="2233440"/>
              <a:ext cx="345240" cy="1919880"/>
            </a:xfrm>
            <a:prstGeom prst="bentConnector3">
              <a:avLst>
                <a:gd name="adj1" fmla="val 329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3563"/>
            <p:cNvCxnSpPr>
              <a:stCxn id="131" idx="3"/>
              <a:endCxn id="139" idx="2"/>
            </p:cNvCxnSpPr>
            <p:nvPr/>
          </p:nvCxnSpPr>
          <p:spPr>
            <a:xfrm flipV="1">
              <a:off x="3473280" y="1985760"/>
              <a:ext cx="2106000" cy="691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3564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5649840" y="1913400"/>
              <a:ext cx="2415960" cy="2559600"/>
            </a:xfrm>
            <a:prstGeom prst="bentConnector3">
              <a:avLst>
                <a:gd name="adj1" fmla="val 47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23565"/>
            <p:cNvCxnSpPr>
              <a:stCxn id="143" idx="0"/>
              <a:endCxn id="139" idx="2"/>
            </p:cNvCxnSpPr>
            <p:nvPr/>
          </p:nvCxnSpPr>
          <p:spPr>
            <a:xfrm flipV="1" rot="16200000">
              <a:off x="5009400" y="2553840"/>
              <a:ext cx="2415960" cy="1278720"/>
            </a:xfrm>
            <a:prstGeom prst="bentConnector3">
              <a:avLst>
                <a:gd name="adj1" fmla="val 47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23566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4369680" y="3192120"/>
              <a:ext cx="2415960" cy="2520"/>
            </a:xfrm>
            <a:prstGeom prst="bentConnector3">
              <a:avLst>
                <a:gd name="adj1" fmla="val 47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23567"/>
            <p:cNvCxnSpPr>
              <a:stCxn id="147" idx="0"/>
              <a:endCxn id="139" idx="2"/>
            </p:cNvCxnSpPr>
            <p:nvPr/>
          </p:nvCxnSpPr>
          <p:spPr>
            <a:xfrm flipH="1" flipV="1" rot="5400000">
              <a:off x="3729240" y="2551680"/>
              <a:ext cx="2415960" cy="1283400"/>
            </a:xfrm>
            <a:prstGeom prst="bentConnector3">
              <a:avLst>
                <a:gd name="adj1" fmla="val 47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23568"/>
            <p:cNvCxnSpPr>
              <a:stCxn id="149" idx="0"/>
              <a:endCxn id="139" idx="2"/>
            </p:cNvCxnSpPr>
            <p:nvPr/>
          </p:nvCxnSpPr>
          <p:spPr>
            <a:xfrm flipH="1" flipV="1" rot="5400000">
              <a:off x="3089520" y="1911960"/>
              <a:ext cx="2415960" cy="2563200"/>
            </a:xfrm>
            <a:prstGeom prst="bentConnector3">
              <a:avLst>
                <a:gd name="adj1" fmla="val 47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23569"/>
            <p:cNvSpPr/>
            <p:nvPr/>
          </p:nvSpPr>
          <p:spPr>
            <a:xfrm>
              <a:off x="5029200" y="1295280"/>
              <a:ext cx="1096920" cy="69084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TO H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23570"/>
            <p:cNvSpPr/>
            <p:nvPr/>
          </p:nvSpPr>
          <p:spPr>
            <a:xfrm>
              <a:off x="2467080" y="4401720"/>
              <a:ext cx="1096920" cy="6904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M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3571"/>
            <p:cNvSpPr/>
            <p:nvPr/>
          </p:nvSpPr>
          <p:spPr>
            <a:xfrm>
              <a:off x="7588080" y="4401720"/>
              <a:ext cx="1098720" cy="6904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23572"/>
            <p:cNvSpPr/>
            <p:nvPr/>
          </p:nvSpPr>
          <p:spPr>
            <a:xfrm>
              <a:off x="6307200" y="4401720"/>
              <a:ext cx="1098360" cy="6904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C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23573"/>
            <p:cNvSpPr/>
            <p:nvPr/>
          </p:nvSpPr>
          <p:spPr>
            <a:xfrm>
              <a:off x="5027760" y="4401720"/>
              <a:ext cx="1096920" cy="6904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C3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23574"/>
            <p:cNvSpPr/>
            <p:nvPr/>
          </p:nvSpPr>
          <p:spPr>
            <a:xfrm>
              <a:off x="3746520" y="4401720"/>
              <a:ext cx="1098360" cy="6904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C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3575"/>
            <p:cNvSpPr/>
            <p:nvPr/>
          </p:nvSpPr>
          <p:spPr>
            <a:xfrm>
              <a:off x="2378160" y="2330640"/>
              <a:ext cx="1095120" cy="69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mitte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23576"/>
            <p:cNvSpPr/>
            <p:nvPr/>
          </p:nvSpPr>
          <p:spPr>
            <a:xfrm>
              <a:off x="457200" y="3366360"/>
              <a:ext cx="1096920" cy="690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R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3577"/>
            <p:cNvSpPr/>
            <p:nvPr/>
          </p:nvSpPr>
          <p:spPr>
            <a:xfrm>
              <a:off x="1736640" y="3366360"/>
              <a:ext cx="1096920" cy="687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3578"/>
            <p:cNvSpPr/>
            <p:nvPr/>
          </p:nvSpPr>
          <p:spPr>
            <a:xfrm>
              <a:off x="3016080" y="3366360"/>
              <a:ext cx="1097280" cy="687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B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3579"/>
            <p:cNvSpPr/>
            <p:nvPr/>
          </p:nvSpPr>
          <p:spPr>
            <a:xfrm>
              <a:off x="4295880" y="3366360"/>
              <a:ext cx="1098360" cy="687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G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5880" y="51814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M-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518148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a 7 Contr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VTC (ISA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5181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IS Contr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5181480"/>
            <a:ext cx="1371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M-I (NCS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ical Support Contract  (NCS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dahar AF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24:34Z</dcterms:created>
  <dc:creator>My PC</dc:creator>
  <dc:description/>
  <dc:language>en-US</dc:language>
  <cp:lastModifiedBy>My PC</cp:lastModifiedBy>
  <dcterms:modified xsi:type="dcterms:W3CDTF">2009-01-22T18:36:07Z</dcterms:modified>
  <cp:revision>20</cp:revision>
  <dc:subject/>
  <dc:title>Slide 1</dc:title>
</cp:coreProperties>
</file>